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DE1-1007-4BE4-AF52-AFC93368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4EE-9A4E-4CC2-AF16-48D841D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9EE-CF95-4B4A-A6D0-853261EB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294-EF5F-4323-99A1-8BBDDC56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F9B0-CBC3-40D9-BEE3-FBB0A350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11D-36B2-4FA6-8AD0-FEDA2A0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988C-3E2B-47B8-B779-A014072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267-8048-4DC2-801D-9E438AC5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E29-F36C-4292-8674-F122F5A2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7FDC-1F0D-4542-AE6B-9ABF8DF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69A-E075-4BAA-8664-661F1EE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13E-899C-4997-93B5-E8CFA7B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EF70-713B-4D82-A78F-7B2D424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5B0D-50BB-42CB-B755-C0DA50F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EE1-5DAE-42AD-8FB7-44FE76A4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49C-F760-4AFB-8E4E-A453AEEF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986-3843-4BD1-9270-A5B690C6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4DA-B3E7-4AA8-865B-62AAC74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C3A-7824-4BDD-B36E-D91857C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102-FB92-4EF5-8886-3B3F46DE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DD4-6672-40E3-ACB7-B64DD304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A89-0AE5-4852-82F9-D597ADC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1D6-8B55-4B1D-AE30-97A5C55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226-0C8A-41D3-9DE5-65A20B6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95C-9B91-49CE-9C18-F05A279F1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0A9-F9F6-47CA-804C-256EF97C1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вадратные уравне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76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авнение – это золотой ключ, открывающий все математические сеза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. Ков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уравнении                              один из его корней равен  3. Найдите другой корень этого уравнения и коэффициент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35280" y="1700280"/>
                <a:ext cx="2160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987640" y="763920"/>
            <a:ext cx="371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3х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36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8х + 24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) 5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х + 6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) 8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24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6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8х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7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5х + 15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8)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7х  =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9) 4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8х - 12 = 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) 16 – 2х + 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квадратные уравнения, ес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)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3,    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5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)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1,5,    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-4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)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-5,    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2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г)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- 6,     х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-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3;   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5,    тогда    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8х + 15 =0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1,5; 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 -4,   тогда     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+ 2,5х – 6 = 0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)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-5;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2,    тогда     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+ 3х – 10 = 0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)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-6;   х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-4,   тогда     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10х + 24 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568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йдите ошибку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х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10х + 12 = 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 = 2    в = 10   с =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Д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4 · 2 · 12 = 100 – 96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4 и 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56000" y="3716280"/>
                <a:ext cx="3744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56000" y="4724280"/>
                <a:ext cx="388764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8360" y="2060640"/>
                <a:ext cx="2448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564000" y="1916280"/>
                <a:ext cx="2087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372360" y="1989000"/>
                <a:ext cx="2016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20" y="2278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20" y="9309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Решите уравнение разными способа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71280" y="321300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- 8х + 7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шите задачу с помощью уравн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91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ина одной из сторон прямоугольника на 6см меньше другой стороны. Площадь прямоугольника 3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м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Найдите стороны этого прям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усть хсм -  длина прямоугольника, тогда его ширина равна (х – 6) см. А по условию задачи площадь равна 315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составим и решим уравнение: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(х – 6)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6х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6х – 315 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 = 1;   в = - 6;    с = - 3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 = (- 6)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4 · 1· (315) = 36 + 1260 = 1296  - уравнение имеет два кор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).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 - 6 =1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м   -вторая сторона прямо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  стороны прямоугольни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и  15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9280" y="4005360"/>
                <a:ext cx="381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932360" y="3933720"/>
                <a:ext cx="39607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20" y="428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вариант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  15 и -1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   0  и   2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   корней 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  1   и       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 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І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 14   и    -14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  0    и    -24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  корней 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  1    и    - 1,4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   -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24000" y="3573360"/>
                <a:ext cx="4190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33:22Z</dcterms:created>
  <dc:creator>макс</dc:creator>
  <dc:description/>
  <dc:language>en-US</dc:language>
  <cp:lastModifiedBy>name</cp:lastModifiedBy>
  <dcterms:modified xsi:type="dcterms:W3CDTF">2009-01-28T09:20:11Z</dcterms:modified>
  <cp:revision>7</cp:revision>
  <dc:subject/>
  <dc:title>Слайд 1</dc:title>
</cp:coreProperties>
</file>