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F1A-ABD9-4C2F-BD5B-28C660CC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3F4-6C63-4677-9977-68415F98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7BF-BFE2-4578-8294-B852ED63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95D-1ABE-4E21-AF85-27BFE43C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81F-B2EC-4C06-AE09-A7EA584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B38-06E0-4710-8453-A818A410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743-60E0-468A-A171-081D717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3A4-64F8-4486-9595-EC20FAD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6EB-1854-4B59-9E4F-3EA61A5A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DB0-FF85-4F60-ACC7-EF300DE1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AAF-FEBD-43A5-88C7-63AAE80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E78-16F5-4E5A-A3FB-F8EDB36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FE47-A695-4F2E-AAB6-2C51D6CAA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58920" y="1197000"/>
            <a:ext cx="7634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РУССКИЙ 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ЯЗЫК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>
            <a:off x="1692360" y="620640"/>
            <a:ext cx="7054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едьмом небе от счасть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 воду опущенн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ять себя в ру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аходить себе мест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сти в своих глаза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жив, ни мерт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о раз лучше/хуж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не в своей тарелк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оружен до зуб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за на лоб полезл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 грызть гранит нау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чу добраться до су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чу залечь на дн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053040" y="2205000"/>
            <a:ext cx="2521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8"/>
          <p:cNvSpPr/>
          <p:nvPr/>
        </p:nvSpPr>
        <p:spPr>
          <a:xfrm>
            <a:off x="603360" y="765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ЧТО Я ЗА ПТИЦА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" name="Picture 19" descr="Самые смешные и потешные птицы | Travellife - путешествовать в кайф!"/>
          <p:cNvPicPr/>
          <p:nvPr/>
        </p:nvPicPr>
        <p:blipFill>
          <a:blip r:embed="rId1"/>
          <a:stretch/>
        </p:blipFill>
        <p:spPr>
          <a:xfrm>
            <a:off x="468360" y="1484280"/>
            <a:ext cx="177012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21" descr="Птички | Смешные птицы, Фотографии птиц, Птички"/>
          <p:cNvPicPr/>
          <p:nvPr/>
        </p:nvPicPr>
        <p:blipFill>
          <a:blip r:embed="rId2"/>
          <a:stretch/>
        </p:blipFill>
        <p:spPr>
          <a:xfrm>
            <a:off x="2411280" y="3429000"/>
            <a:ext cx="190044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23" descr="Милые, смешные, фотографии птиц"/>
          <p:cNvPicPr/>
          <p:nvPr/>
        </p:nvPicPr>
        <p:blipFill>
          <a:blip r:embed="rId3"/>
          <a:stretch/>
        </p:blipFill>
        <p:spPr>
          <a:xfrm>
            <a:off x="4707000" y="1484280"/>
            <a:ext cx="168588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25" descr="Забавные фото самой смешной птицы в мире - великикого Потоо"/>
          <p:cNvPicPr/>
          <p:nvPr/>
        </p:nvPicPr>
        <p:blipFill>
          <a:blip r:embed="rId4"/>
          <a:stretch/>
        </p:blipFill>
        <p:spPr>
          <a:xfrm>
            <a:off x="6508800" y="3789360"/>
            <a:ext cx="2187360" cy="163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KtoZHeTakiePtichki.mp3" descr=""/>
          <p:cNvPicPr/>
          <p:nvPr/>
        </p:nvPicPr>
        <p:blipFill>
          <a:blip r:embed="rId5"/>
          <a:stretch/>
        </p:blipFill>
        <p:spPr>
          <a:xfrm>
            <a:off x="704880" y="6093000"/>
            <a:ext cx="355680" cy="35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83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55640" y="76500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ффикс – это маленькое сл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ффикс – это часть сло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ффикс служит для образования новых сл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ффикс служит для связи слов в предлож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ффикс стоит перед корн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ффикс стоит после кор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603360" y="765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ЧТО Я ЗА ПТИЦА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926440" y="1628640"/>
            <a:ext cx="30596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5 до 8 баллов – оценка «3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2133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воробей, собираете знания по зернышк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Picture 2" descr="C:\Users\sadov\Desktop\воробей.jpg"/>
          <p:cNvPicPr/>
          <p:nvPr/>
        </p:nvPicPr>
        <p:blipFill>
          <a:blip r:embed="rId1"/>
          <a:stretch/>
        </p:blipFill>
        <p:spPr>
          <a:xfrm>
            <a:off x="2843280" y="2781360"/>
            <a:ext cx="3014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8"/>
          <p:cNvSpPr/>
          <p:nvPr/>
        </p:nvSpPr>
        <p:spPr>
          <a:xfrm>
            <a:off x="603360" y="765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ЧТО Я ЗА ПТИЦА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927160" y="1628640"/>
            <a:ext cx="3173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9 до 12 баллов – оценка «4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68360" y="2133720"/>
            <a:ext cx="8064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оловей, поведайте о своих знаниях други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" name="Picture 2" descr="C:\Users\sadov\Desktop\соловей.jpg"/>
          <p:cNvPicPr/>
          <p:nvPr/>
        </p:nvPicPr>
        <p:blipFill>
          <a:blip r:embed="rId1"/>
          <a:stretch/>
        </p:blipFill>
        <p:spPr>
          <a:xfrm>
            <a:off x="2598840" y="2492280"/>
            <a:ext cx="3987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8"/>
          <p:cNvSpPr/>
          <p:nvPr/>
        </p:nvSpPr>
        <p:spPr>
          <a:xfrm>
            <a:off x="603360" y="620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ЧТО Я ЗА ПТИЦА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927160" y="1436760"/>
            <a:ext cx="3288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3 до 15 баллов – оценка «5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468360" y="1989000"/>
            <a:ext cx="8064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орел, для вас открылись тайны знан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2" descr="C:\Users\sadov\Desktop\орел.png"/>
          <p:cNvPicPr/>
          <p:nvPr/>
        </p:nvPicPr>
        <p:blipFill>
          <a:blip r:embed="rId1"/>
          <a:stretch/>
        </p:blipFill>
        <p:spPr>
          <a:xfrm>
            <a:off x="2484360" y="2852640"/>
            <a:ext cx="42483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8"/>
          <p:cNvSpPr/>
          <p:nvPr/>
        </p:nvSpPr>
        <p:spPr>
          <a:xfrm>
            <a:off x="395280" y="2508120"/>
            <a:ext cx="83534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800000"/>
                </a:solidFill>
                <a:latin typeface="Georgia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sadovskaysf@outlook.com</cp:lastModifiedBy>
  <dcterms:modified xsi:type="dcterms:W3CDTF">2022-02-21T10:10:54Z</dcterms:modified>
  <cp:revision>17</cp:revision>
  <dc:subject/>
  <dc:title>Слайд 1</dc:title>
</cp:coreProperties>
</file>