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5.gif" ContentType="image/gif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6.jpeg" ContentType="image/jpeg"/>
  <Override PartName="/ppt/media/image23.gif" ContentType="image/gif"/>
  <Override PartName="/ppt/media/image17.gif" ContentType="image/gif"/>
  <Override PartName="/ppt/media/image25.jpeg" ContentType="image/jpeg"/>
  <Override PartName="/ppt/media/image22.gif" ContentType="image/gif"/>
  <Override PartName="/ppt/media/image21.gif" ContentType="image/gif"/>
  <Override PartName="/ppt/media/image19.gif" ContentType="image/gif"/>
  <Override PartName="/ppt/media/image1.jpeg" ContentType="image/jpeg"/>
  <Override PartName="/ppt/media/image10.png" ContentType="image/png"/>
  <Override PartName="/ppt/media/image20.gif" ContentType="image/gif"/>
  <Override PartName="/ppt/media/image18.gif" ContentType="image/gif"/>
  <Override PartName="/ppt/media/image16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E169-29BC-433F-9105-E2C4A73285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200E-5E5A-4B4E-8274-D9BE2C7463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0568-3761-4E42-AFCD-8118EF545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5E7D-8917-412D-9B4A-2861EF83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4002-4B20-4E81-8307-80992B9F5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EB47-54AA-4106-B6C8-97160282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524A-8549-4E62-9148-41BD58CC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4444-D50F-45A2-87E1-17C3CF60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304B-B449-4F3F-B978-D6300072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4E37-58B7-47D1-AEEE-ACA24C3B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DDB2-6E65-4A4C-B674-CB623CDB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596A-2792-4201-9B56-4F215BCC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B25D-DC97-4F5A-8721-CE4ECC36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F013-C956-419E-B0BF-A510A072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E38F-5679-4B3B-8855-B183871D9F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7.gif"/><Relationship Id="rId7" Type="http://schemas.openxmlformats.org/officeDocument/2006/relationships/image" Target="../media/image18.gif"/><Relationship Id="rId8" Type="http://schemas.openxmlformats.org/officeDocument/2006/relationships/image" Target="../media/image19.gif"/><Relationship Id="rId9" Type="http://schemas.openxmlformats.org/officeDocument/2006/relationships/image" Target="../media/image20.gif"/><Relationship Id="rId10" Type="http://schemas.openxmlformats.org/officeDocument/2006/relationships/image" Target="../media/image21.gif"/><Relationship Id="rId11" Type="http://schemas.openxmlformats.org/officeDocument/2006/relationships/image" Target="../media/image21.gif"/><Relationship Id="rId12" Type="http://schemas.openxmlformats.org/officeDocument/2006/relationships/image" Target="../media/image22.gif"/><Relationship Id="rId13" Type="http://schemas.openxmlformats.org/officeDocument/2006/relationships/image" Target="../media/image23.gif"/><Relationship Id="rId1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star_007"/>
          <p:cNvPicPr/>
          <p:nvPr/>
        </p:nvPicPr>
        <p:blipFill>
          <a:blip r:embed="rId1"/>
          <a:stretch/>
        </p:blipFill>
        <p:spPr>
          <a:xfrm>
            <a:off x="0" y="-457200"/>
            <a:ext cx="944892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-39600"/>
            <a:ext cx="8381880" cy="655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Я - небесное тело. Представляют собой светящийся массивный   газовый шар. Обычно  состою из гелия и водо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вёрдое тело космического происхождения, упавшее на поверхность крупного небесного тела. Большинство  имеют вес от нескольких граммов до нескольких килограммов. Крупнейший из найденных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ба (вес 60 тонн). Полагают, что в сутки на Землю падает 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т , или 2 тысяч тонн в г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Я известна с глубокой древности.  Небесное тело, которые становятся все ярче и ярче по мере приближения к Солнцу, а также приобретают длинные и тоже очень яркие хвосты, - появлялись довольно редко, а главное - неожиданно. Из-за необычного вида их считали предвестниками несчастий: голода, стихийных бедствий, эпидемий, войны или смерти прави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Я- естественный спутник Земли, среднее расстояние от Земли 384000 км, средний диаметр 3476 км. Я практически лишена атмосфе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 трёхмерном пространстве звёзды, которые мы видим н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есной сфере рядом, могут быть расположены очень далеко друг от друга. С древнейших времё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ли некоторую систему во взаимном расположении звёзд и группировали их в соответствии с ней в нас. Кто м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star_007"/>
          <p:cNvPicPr/>
          <p:nvPr/>
        </p:nvPicPr>
        <p:blipFill>
          <a:blip r:embed="rId1"/>
          <a:stretch/>
        </p:blipFill>
        <p:spPr>
          <a:xfrm>
            <a:off x="0" y="-457200"/>
            <a:ext cx="9448920" cy="7315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1156447666-2"/>
          <p:cNvPicPr/>
          <p:nvPr/>
        </p:nvPicPr>
        <p:blipFill>
          <a:blip r:embed="rId2"/>
          <a:stretch/>
        </p:blipFill>
        <p:spPr>
          <a:xfrm>
            <a:off x="0" y="228600"/>
            <a:ext cx="9448920" cy="54864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сстояние планет от Солнц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 млн.к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900000" y="2276640"/>
            <a:ext cx="3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539640" y="263700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332000" y="2205000"/>
            <a:ext cx="3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1042920" y="278136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1837080" y="21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1766160" y="2852640"/>
            <a:ext cx="688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2341800" y="20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2484360" y="3068640"/>
            <a:ext cx="7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2916360" y="184464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3134520" y="33577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7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4358160" y="184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4430520" y="3141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4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5582160" y="1916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5295600" y="2997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8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6156360" y="206064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6227640" y="2852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4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6300720" y="3573360"/>
            <a:ext cx="3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5582880" y="38606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9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5"/>
          <p:cNvSpPr/>
          <p:nvPr/>
        </p:nvSpPr>
        <p:spPr>
          <a:xfrm>
            <a:off x="0" y="5334120"/>
            <a:ext cx="9372600" cy="1218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Расстояние  в 150 млн км. создаёт наиболее благоприятные условия для температурного режима земной поверх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Earth.wmv" descr=""/>
          <p:cNvPicPr/>
          <p:nvPr/>
        </p:nvPicPr>
        <p:blipFill>
          <a:blip r:embed="rId1"/>
          <a:stretch/>
        </p:blipFill>
        <p:spPr>
          <a:xfrm>
            <a:off x="0" y="-38160"/>
            <a:ext cx="919476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63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star_007"/>
          <p:cNvPicPr/>
          <p:nvPr/>
        </p:nvPicPr>
        <p:blipFill>
          <a:blip r:embed="rId1"/>
          <a:stretch/>
        </p:blipFill>
        <p:spPr>
          <a:xfrm>
            <a:off x="0" y="-228600"/>
            <a:ext cx="10134720" cy="73152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9"/>
          <p:cNvSpPr/>
          <p:nvPr/>
        </p:nvSpPr>
        <p:spPr>
          <a:xfrm>
            <a:off x="380880" y="3189240"/>
            <a:ext cx="87631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533520" y="1371600"/>
            <a:ext cx="883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9296280" cy="632448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7"/>
          <p:cNvSpPr/>
          <p:nvPr/>
        </p:nvSpPr>
        <p:spPr>
          <a:xfrm>
            <a:off x="5334120" y="3352680"/>
            <a:ext cx="3504960" cy="60984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Адрес  Др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9"/>
          <p:cNvSpPr/>
          <p:nvPr/>
        </p:nvSpPr>
        <p:spPr>
          <a:xfrm>
            <a:off x="1600200" y="685800"/>
            <a:ext cx="2895480" cy="53352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Мой адр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star_007"/>
          <p:cNvPicPr/>
          <p:nvPr/>
        </p:nvPicPr>
        <p:blipFill>
          <a:blip r:embed="rId1"/>
          <a:stretch/>
        </p:blipFill>
        <p:spPr>
          <a:xfrm>
            <a:off x="-152280" y="-457200"/>
            <a:ext cx="10134360" cy="73152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9"/>
          <p:cNvSpPr/>
          <p:nvPr/>
        </p:nvSpPr>
        <p:spPr>
          <a:xfrm>
            <a:off x="380880" y="3189240"/>
            <a:ext cx="87631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5"/>
          <p:cNvSpPr/>
          <p:nvPr/>
        </p:nvSpPr>
        <p:spPr>
          <a:xfrm>
            <a:off x="533520" y="1371600"/>
            <a:ext cx="883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4267080" y="1143000"/>
            <a:ext cx="46080" cy="46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5-конечная звезда 7"/>
          <p:cNvSpPr/>
          <p:nvPr/>
        </p:nvSpPr>
        <p:spPr>
          <a:xfrm>
            <a:off x="2209680" y="1371600"/>
            <a:ext cx="2819520" cy="29718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З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5-конечная звезда 8"/>
          <p:cNvSpPr/>
          <p:nvPr/>
        </p:nvSpPr>
        <p:spPr>
          <a:xfrm>
            <a:off x="4495680" y="0"/>
            <a:ext cx="2438640" cy="18288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Ма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5-конечная звезда 9"/>
          <p:cNvSpPr/>
          <p:nvPr/>
        </p:nvSpPr>
        <p:spPr>
          <a:xfrm>
            <a:off x="6705720" y="-304920"/>
            <a:ext cx="3352680" cy="304812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Галак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5-конечная звезда 10"/>
          <p:cNvSpPr/>
          <p:nvPr/>
        </p:nvSpPr>
        <p:spPr>
          <a:xfrm>
            <a:off x="0" y="-533520"/>
            <a:ext cx="3733920" cy="289584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Всел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5-конечная звезда 11"/>
          <p:cNvSpPr/>
          <p:nvPr/>
        </p:nvSpPr>
        <p:spPr>
          <a:xfrm>
            <a:off x="3962520" y="2133720"/>
            <a:ext cx="3809880" cy="31240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Солнечн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5-конечная звезда 12"/>
          <p:cNvSpPr/>
          <p:nvPr/>
        </p:nvSpPr>
        <p:spPr>
          <a:xfrm>
            <a:off x="6629400" y="3276720"/>
            <a:ext cx="3048120" cy="31240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Ком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5-конечная звезда 13"/>
          <p:cNvSpPr/>
          <p:nvPr/>
        </p:nvSpPr>
        <p:spPr>
          <a:xfrm>
            <a:off x="0" y="2514600"/>
            <a:ext cx="4038480" cy="373392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Космические те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0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star_007"/>
          <p:cNvPicPr/>
          <p:nvPr/>
        </p:nvPicPr>
        <p:blipFill>
          <a:blip r:embed="rId1"/>
          <a:stretch/>
        </p:blipFill>
        <p:spPr>
          <a:xfrm>
            <a:off x="-152280" y="-457200"/>
            <a:ext cx="10134360" cy="73152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380880" y="3189240"/>
            <a:ext cx="87631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533520" y="1371600"/>
            <a:ext cx="883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6"/>
          <p:cNvSpPr/>
          <p:nvPr/>
        </p:nvSpPr>
        <p:spPr>
          <a:xfrm>
            <a:off x="4267080" y="1143000"/>
            <a:ext cx="46080" cy="46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5-конечная звезда 7"/>
          <p:cNvSpPr/>
          <p:nvPr/>
        </p:nvSpPr>
        <p:spPr>
          <a:xfrm>
            <a:off x="6934320" y="3505320"/>
            <a:ext cx="2819160" cy="29718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З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5-конечная звезда 9"/>
          <p:cNvSpPr/>
          <p:nvPr/>
        </p:nvSpPr>
        <p:spPr>
          <a:xfrm>
            <a:off x="1981080" y="1600200"/>
            <a:ext cx="3353040" cy="304812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Галак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5-конечная звезда 10"/>
          <p:cNvSpPr/>
          <p:nvPr/>
        </p:nvSpPr>
        <p:spPr>
          <a:xfrm>
            <a:off x="-228600" y="762120"/>
            <a:ext cx="3733920" cy="28954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Всел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5-конечная звезда 11"/>
          <p:cNvSpPr/>
          <p:nvPr/>
        </p:nvSpPr>
        <p:spPr>
          <a:xfrm>
            <a:off x="4038480" y="2666880"/>
            <a:ext cx="3810240" cy="312444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Солнечн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4"/>
          <p:cNvSpPr/>
          <p:nvPr/>
        </p:nvSpPr>
        <p:spPr>
          <a:xfrm>
            <a:off x="4495680" y="0"/>
            <a:ext cx="4038840" cy="53352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Мой адр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star_007"/>
          <p:cNvPicPr/>
          <p:nvPr/>
        </p:nvPicPr>
        <p:blipFill>
          <a:blip r:embed="rId1"/>
          <a:stretch/>
        </p:blipFill>
        <p:spPr>
          <a:xfrm>
            <a:off x="-152280" y="-457200"/>
            <a:ext cx="10134360" cy="73152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9"/>
          <p:cNvSpPr/>
          <p:nvPr/>
        </p:nvSpPr>
        <p:spPr>
          <a:xfrm>
            <a:off x="380880" y="3189240"/>
            <a:ext cx="87631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5"/>
          <p:cNvSpPr/>
          <p:nvPr/>
        </p:nvSpPr>
        <p:spPr>
          <a:xfrm>
            <a:off x="533520" y="1371600"/>
            <a:ext cx="883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6"/>
          <p:cNvSpPr/>
          <p:nvPr/>
        </p:nvSpPr>
        <p:spPr>
          <a:xfrm>
            <a:off x="4267080" y="1143000"/>
            <a:ext cx="46080" cy="46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5-конечная звезда 8"/>
          <p:cNvSpPr/>
          <p:nvPr/>
        </p:nvSpPr>
        <p:spPr>
          <a:xfrm>
            <a:off x="7086600" y="4267080"/>
            <a:ext cx="2438280" cy="18288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Ма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5-конечная звезда 9"/>
          <p:cNvSpPr/>
          <p:nvPr/>
        </p:nvSpPr>
        <p:spPr>
          <a:xfrm>
            <a:off x="1752480" y="1981080"/>
            <a:ext cx="3353040" cy="304812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Галак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5-конечная звезда 10"/>
          <p:cNvSpPr/>
          <p:nvPr/>
        </p:nvSpPr>
        <p:spPr>
          <a:xfrm>
            <a:off x="-152280" y="533520"/>
            <a:ext cx="3733560" cy="24382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Всел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5-конечная звезда 11"/>
          <p:cNvSpPr/>
          <p:nvPr/>
        </p:nvSpPr>
        <p:spPr>
          <a:xfrm>
            <a:off x="4267080" y="2971800"/>
            <a:ext cx="3810240" cy="31240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Солнечн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6"/>
          <p:cNvSpPr/>
          <p:nvPr/>
        </p:nvSpPr>
        <p:spPr>
          <a:xfrm>
            <a:off x="5410080" y="228600"/>
            <a:ext cx="4038840" cy="53352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Адрес  Др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228600" y="325800"/>
            <a:ext cx="86104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647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  <a:ea typeface="Times New Roman"/>
              </a:rPr>
              <a:t>                                 </a:t>
            </a:r>
            <a:r>
              <a:rPr b="1" i="1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Здравствуй мой незнакомый марсианский друг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47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Очень хочется с тобой начать переписку и рассказать о себе.  Я живу на планете Земля, которая расположена на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орбите от Солнца. На нашей планете есть жизнь.  Солнечная система состоит из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r>
              <a:rPr b="1" i="1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планет.  Расстояние до Солнца составляет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0 млн </a:t>
            </a:r>
            <a:r>
              <a:rPr b="1" i="1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км. Самой большой планетой в нашей Солнечной системе являетс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Юпитер</a:t>
            </a:r>
            <a:r>
              <a:rPr b="1" i="1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, а самой маленькой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ркурий </a:t>
            </a:r>
            <a:r>
              <a:rPr b="1" i="1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. Самой близкой  планетой являетс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ркурий</a:t>
            </a:r>
            <a:r>
              <a:rPr b="1" i="1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, а самой дальней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птун</a:t>
            </a:r>
            <a:r>
              <a:rPr b="1" i="1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. В нашей Солнечной системе есть планета с самым большим количеством спутников – это планета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турн</a:t>
            </a:r>
            <a:r>
              <a:rPr b="1" i="1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, у неё  их 1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47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i="1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Земля, на которой я живу очень  старая, её возраст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,5</a:t>
            </a:r>
            <a:r>
              <a:rPr b="1" i="1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млрд. лет. Необычна планета по своей форме. Она чуть-чуть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люснута</a:t>
            </a:r>
            <a:r>
              <a:rPr b="1" i="1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у полюсов. Ее диаметр равен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800 км</a:t>
            </a:r>
            <a:r>
              <a:rPr b="1" i="1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, а длинна окружности более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000 км</a:t>
            </a:r>
            <a:r>
              <a:rPr b="1" i="1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. Год на нашей планете длитс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65</a:t>
            </a:r>
            <a:r>
              <a:rPr b="1" i="1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дней, а  на твоей планете он ровно в два раза больше. Через каждые 24 часа я хожу в школу учиться, а т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47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У нашей планет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арообразная</a:t>
            </a:r>
            <a:r>
              <a:rPr b="1" i="1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форма и оптимальные для возникновения жизни условия. Но узнал я об этом благодаря  трём великим древнегреческим ученым, а именно благодар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ристотелю</a:t>
            </a:r>
            <a:r>
              <a:rPr b="1" i="1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(</a:t>
            </a:r>
            <a:r>
              <a:rPr b="1" i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IV</a:t>
            </a:r>
            <a:r>
              <a:rPr b="1" i="1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век до н.э.), который доказал шарообразность Земли; Эратосфену (</a:t>
            </a:r>
            <a:r>
              <a:rPr b="1" i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– </a:t>
            </a:r>
            <a:r>
              <a:rPr b="1" i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II</a:t>
            </a:r>
            <a:r>
              <a:rPr b="1" i="1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века до н.э.), вычислившему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аметр</a:t>
            </a:r>
            <a:r>
              <a:rPr b="1" i="1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Земли и Пифагору (</a:t>
            </a:r>
            <a:r>
              <a:rPr b="1" i="1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IV</a:t>
            </a:r>
            <a:r>
              <a:rPr b="1" i="1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век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47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На нашей Земле  очень много стран и народов. Каждый уголок Земли по своему прекрасен. Все жители нашей планеты гордятся, что живут на планете Земля. А ты, мой марсианский друг, гордишься своей планетой? Очень жду твоего от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Оценивание</a:t>
            </a:r>
            <a:br>
              <a:rPr sz="60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6-15 – «5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4-12 – «4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1-9 – «3»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2" descr="53b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90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Место встречи  -  планета Земл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1" descr="37r5"/>
          <p:cNvPicPr/>
          <p:nvPr/>
        </p:nvPicPr>
        <p:blipFill>
          <a:blip r:embed="rId2"/>
          <a:stretch/>
        </p:blipFill>
        <p:spPr>
          <a:xfrm>
            <a:off x="0" y="404640"/>
            <a:ext cx="1311120" cy="1368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122"/>
          <p:cNvPicPr/>
          <p:nvPr/>
        </p:nvPicPr>
        <p:blipFill>
          <a:blip r:embed="rId3"/>
          <a:stretch/>
        </p:blipFill>
        <p:spPr>
          <a:xfrm>
            <a:off x="7308720" y="2205000"/>
            <a:ext cx="881280" cy="747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8" descr="116"/>
          <p:cNvPicPr/>
          <p:nvPr/>
        </p:nvPicPr>
        <p:blipFill>
          <a:blip r:embed="rId4"/>
          <a:stretch/>
        </p:blipFill>
        <p:spPr>
          <a:xfrm>
            <a:off x="2843280" y="3141720"/>
            <a:ext cx="561960" cy="557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9" descr="154"/>
          <p:cNvPicPr/>
          <p:nvPr/>
        </p:nvPicPr>
        <p:blipFill>
          <a:blip r:embed="rId5"/>
          <a:stretch/>
        </p:blipFill>
        <p:spPr>
          <a:xfrm>
            <a:off x="3492360" y="4365720"/>
            <a:ext cx="1295640" cy="1414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0" descr="95"/>
          <p:cNvPicPr/>
          <p:nvPr/>
        </p:nvPicPr>
        <p:blipFill>
          <a:blip r:embed="rId6"/>
          <a:stretch/>
        </p:blipFill>
        <p:spPr>
          <a:xfrm rot="19657200">
            <a:off x="539640" y="3860640"/>
            <a:ext cx="914400" cy="419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1" descr="flowers32"/>
          <p:cNvPicPr/>
          <p:nvPr/>
        </p:nvPicPr>
        <p:blipFill>
          <a:blip r:embed="rId7"/>
          <a:stretch/>
        </p:blipFill>
        <p:spPr>
          <a:xfrm>
            <a:off x="4643280" y="5553000"/>
            <a:ext cx="981360" cy="1305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3" descr="flowers20"/>
          <p:cNvPicPr/>
          <p:nvPr/>
        </p:nvPicPr>
        <p:blipFill>
          <a:blip r:embed="rId8"/>
          <a:stretch/>
        </p:blipFill>
        <p:spPr>
          <a:xfrm>
            <a:off x="7020000" y="4699080"/>
            <a:ext cx="1299960" cy="2158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7" descr="1b3"/>
          <p:cNvPicPr/>
          <p:nvPr/>
        </p:nvPicPr>
        <p:blipFill>
          <a:blip r:embed="rId9"/>
          <a:stretch/>
        </p:blipFill>
        <p:spPr>
          <a:xfrm>
            <a:off x="0" y="213372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E:\Анимация\анимашки\цветы\flower.gif"/>
          <p:cNvPicPr/>
          <p:nvPr/>
        </p:nvPicPr>
        <p:blipFill>
          <a:blip r:embed="rId10"/>
          <a:stretch/>
        </p:blipFill>
        <p:spPr>
          <a:xfrm>
            <a:off x="8209080" y="5950080"/>
            <a:ext cx="934920" cy="647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" descr="E:\Анимация\анимашки\цветы\flower.gif"/>
          <p:cNvPicPr/>
          <p:nvPr/>
        </p:nvPicPr>
        <p:blipFill>
          <a:blip r:embed="rId11"/>
          <a:stretch/>
        </p:blipFill>
        <p:spPr>
          <a:xfrm>
            <a:off x="971640" y="5805360"/>
            <a:ext cx="792000" cy="64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E:\Анимация\анимашки\цветы\flower18.gif"/>
          <p:cNvPicPr/>
          <p:nvPr/>
        </p:nvPicPr>
        <p:blipFill>
          <a:blip r:embed="rId12"/>
          <a:stretch/>
        </p:blipFill>
        <p:spPr>
          <a:xfrm rot="191400">
            <a:off x="4284720" y="5373720"/>
            <a:ext cx="474480" cy="63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1" descr="9"/>
          <p:cNvPicPr/>
          <p:nvPr/>
        </p:nvPicPr>
        <p:blipFill>
          <a:blip r:embed="rId13"/>
          <a:stretch/>
        </p:blipFill>
        <p:spPr>
          <a:xfrm>
            <a:off x="7380360" y="4896000"/>
            <a:ext cx="1763640" cy="1962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5"/>
          <p:cNvSpPr/>
          <p:nvPr/>
        </p:nvSpPr>
        <p:spPr>
          <a:xfrm rot="1896600">
            <a:off x="5343120" y="3854160"/>
            <a:ext cx="689040" cy="3380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6"/>
          <p:cNvSpPr/>
          <p:nvPr/>
        </p:nvSpPr>
        <p:spPr>
          <a:xfrm rot="489000">
            <a:off x="5724360" y="3841560"/>
            <a:ext cx="508320" cy="444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7"/>
          <p:cNvSpPr/>
          <p:nvPr/>
        </p:nvSpPr>
        <p:spPr>
          <a:xfrm rot="19707600">
            <a:off x="5897160" y="3843360"/>
            <a:ext cx="812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8"/>
          <p:cNvSpPr/>
          <p:nvPr/>
        </p:nvSpPr>
        <p:spPr>
          <a:xfrm>
            <a:off x="5435640" y="3645000"/>
            <a:ext cx="115236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3"/>
          <p:cNvSpPr/>
          <p:nvPr/>
        </p:nvSpPr>
        <p:spPr>
          <a:xfrm rot="1391400">
            <a:off x="7657920" y="1493640"/>
            <a:ext cx="288720" cy="215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4"/>
          <p:cNvSpPr/>
          <p:nvPr/>
        </p:nvSpPr>
        <p:spPr>
          <a:xfrm flipV="1" rot="19416600">
            <a:off x="7860960" y="1416960"/>
            <a:ext cx="290520" cy="288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67"/>
          <p:cNvSpPr/>
          <p:nvPr/>
        </p:nvSpPr>
        <p:spPr>
          <a:xfrm rot="10800000">
            <a:off x="2339640" y="2637000"/>
            <a:ext cx="144360" cy="504720"/>
          </a:xfrm>
          <a:custGeom>
            <a:avLst/>
            <a:gdLst>
              <a:gd name="textAreaLeft" fmla="*/ 60480 w 144360"/>
              <a:gd name="textAreaRight" fmla="*/ 96480 w 144360"/>
              <a:gd name="textAreaTop" fmla="*/ 46800 h 504720"/>
              <a:gd name="textAreaBottom" fmla="*/ 4579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017" y="2589"/>
                  <a:pt x="14434" y="5080"/>
                  <a:pt x="14434" y="10800"/>
                </a:cubicBezTo>
                <a:cubicBezTo>
                  <a:pt x="14434" y="16520"/>
                  <a:pt x="18017" y="19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68"/>
          <p:cNvSpPr/>
          <p:nvPr/>
        </p:nvSpPr>
        <p:spPr>
          <a:xfrm>
            <a:off x="1692360" y="2852640"/>
            <a:ext cx="431640" cy="360360"/>
          </a:xfrm>
          <a:prstGeom prst="hexagon">
            <a:avLst>
              <a:gd name="adj" fmla="val 29945"/>
              <a:gd name="vf" fmla="val 115470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9"/>
          <p:cNvSpPr/>
          <p:nvPr/>
        </p:nvSpPr>
        <p:spPr>
          <a:xfrm rot="1026600">
            <a:off x="1476000" y="2768760"/>
            <a:ext cx="474840" cy="28872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0"/>
          <p:cNvSpPr/>
          <p:nvPr/>
        </p:nvSpPr>
        <p:spPr>
          <a:xfrm>
            <a:off x="1692360" y="2781360"/>
            <a:ext cx="431640" cy="28728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3"/>
          <p:cNvSpPr/>
          <p:nvPr/>
        </p:nvSpPr>
        <p:spPr>
          <a:xfrm>
            <a:off x="7667640" y="1341360"/>
            <a:ext cx="504720" cy="216000"/>
          </a:xfrm>
          <a:prstGeom prst="octagon">
            <a:avLst>
              <a:gd name="adj" fmla="val 29287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0"/>
          <p:cNvSpPr/>
          <p:nvPr/>
        </p:nvSpPr>
        <p:spPr>
          <a:xfrm flipV="1">
            <a:off x="7667640" y="1413000"/>
            <a:ext cx="504720" cy="71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1"/>
          <p:cNvSpPr/>
          <p:nvPr/>
        </p:nvSpPr>
        <p:spPr>
          <a:xfrm rot="18464400">
            <a:off x="7675200" y="1190520"/>
            <a:ext cx="505080" cy="8568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82"/>
          <p:cNvSpPr/>
          <p:nvPr/>
        </p:nvSpPr>
        <p:spPr>
          <a:xfrm>
            <a:off x="7812000" y="1341360"/>
            <a:ext cx="73080" cy="698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83"/>
          <p:cNvSpPr/>
          <p:nvPr/>
        </p:nvSpPr>
        <p:spPr>
          <a:xfrm>
            <a:off x="8028000" y="981000"/>
            <a:ext cx="73080" cy="2174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4"/>
          <p:cNvSpPr/>
          <p:nvPr/>
        </p:nvSpPr>
        <p:spPr>
          <a:xfrm flipV="1" rot="13776000">
            <a:off x="7594920" y="1196280"/>
            <a:ext cx="504720" cy="71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85"/>
          <p:cNvSpPr/>
          <p:nvPr/>
        </p:nvSpPr>
        <p:spPr>
          <a:xfrm>
            <a:off x="7667640" y="981000"/>
            <a:ext cx="73080" cy="2174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Картинка 65 из 2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39625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Домашнее 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тр. 20-21, составить кроссвор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«Небесные  те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3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3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3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6840" y="1295280"/>
            <a:ext cx="845820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10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ланеты земной груп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10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ланеты-гига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а) Земля;  б) Юпитер;   в) Марс;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г) Нептун;  д) Сатурн;  е)Меркур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ж) Венера; з) Ур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вет: 1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260280"/>
            <a:ext cx="8210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6. Установите соответств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Картинка 283 из 139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373356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Земля единственная планета нашей Солнечной системы, где есть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ы  уже знаем, что мы не одиноки, мы делим планету с 10 миллионами других живых суще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5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5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2" descr="Картинка 3 из 17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Планета Земля – Жизнь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Берегите нашу планету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3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3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304920" y="457200"/>
          <a:ext cx="8610480" cy="5943600"/>
        </p:xfrm>
        <a:graphic>
          <a:graphicData uri="http://schemas.openxmlformats.org/drawingml/2006/table">
            <a:tbl>
              <a:tblPr/>
              <a:tblGrid>
                <a:gridCol w="573120"/>
                <a:gridCol w="572760"/>
                <a:gridCol w="576360"/>
                <a:gridCol w="573120"/>
                <a:gridCol w="573120"/>
                <a:gridCol w="574560"/>
                <a:gridCol w="573120"/>
                <a:gridCol w="576360"/>
                <a:gridCol w="671400"/>
                <a:gridCol w="478080"/>
                <a:gridCol w="573120"/>
                <a:gridCol w="572760"/>
                <a:gridCol w="574920"/>
                <a:gridCol w="574560"/>
                <a:gridCol w="573120"/>
              </a:tblGrid>
              <a:tr h="1189080">
                <a:tc gridSpan="8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280">
                <a:tc gridSpan="6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 gridSpan="8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star_007"/>
          <p:cNvPicPr/>
          <p:nvPr/>
        </p:nvPicPr>
        <p:blipFill>
          <a:blip r:embed="rId1"/>
          <a:stretch/>
        </p:blipFill>
        <p:spPr>
          <a:xfrm>
            <a:off x="0" y="-228600"/>
            <a:ext cx="10134720" cy="73152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9"/>
          <p:cNvSpPr/>
          <p:nvPr/>
        </p:nvSpPr>
        <p:spPr>
          <a:xfrm>
            <a:off x="380880" y="3189240"/>
            <a:ext cx="87631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533520" y="1371600"/>
            <a:ext cx="9067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00"/>
                </a:solidFill>
                <a:latin typeface="Arial"/>
              </a:rPr>
              <a:t>Лязем-неплата          Нойнечсол тесисмы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Картинка 131 из 225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00"/>
                </a:solidFill>
                <a:latin typeface="Arial"/>
              </a:rPr>
              <a:t>Земля-планета Солнечной систем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Картинка 450 из 313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star_007"/>
          <p:cNvPicPr/>
          <p:nvPr/>
        </p:nvPicPr>
        <p:blipFill>
          <a:blip r:embed="rId1"/>
          <a:stretch/>
        </p:blipFill>
        <p:spPr>
          <a:xfrm>
            <a:off x="0" y="0"/>
            <a:ext cx="1013472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56390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00"/>
                </a:solidFill>
                <a:latin typeface="Arial"/>
              </a:rPr>
              <a:t>Пифагор</a:t>
            </a:r>
            <a:br>
              <a:rPr sz="5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( 580 – 500 до н.э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352320" y="4114440"/>
            <a:ext cx="63248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92d050"/>
                </a:solidFill>
                <a:latin typeface="Arial"/>
              </a:rPr>
              <a:t>Первым предположил, что Земля не плоск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92d050"/>
                </a:solidFill>
                <a:latin typeface="Arial"/>
              </a:rPr>
              <a:t>а имеет форму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ша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(«сфера» = шар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C:\Users\user\Desktop\Мои рисунки 1\Космос. Земля\7з.jpg"/>
          <p:cNvPicPr/>
          <p:nvPr/>
        </p:nvPicPr>
        <p:blipFill>
          <a:blip r:embed="rId2"/>
          <a:stretch/>
        </p:blipFill>
        <p:spPr>
          <a:xfrm>
            <a:off x="228600" y="2743200"/>
            <a:ext cx="3581280" cy="4114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Картинка 7 из 10545"/>
          <p:cNvPicPr/>
          <p:nvPr/>
        </p:nvPicPr>
        <p:blipFill>
          <a:blip r:embed="rId3"/>
          <a:stretch/>
        </p:blipFill>
        <p:spPr>
          <a:xfrm>
            <a:off x="5924520" y="304920"/>
            <a:ext cx="3543480" cy="76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star_007"/>
          <p:cNvPicPr/>
          <p:nvPr/>
        </p:nvPicPr>
        <p:blipFill>
          <a:blip r:embed="rId1"/>
          <a:stretch/>
        </p:blipFill>
        <p:spPr>
          <a:xfrm>
            <a:off x="-152280" y="0"/>
            <a:ext cx="1013436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58672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Аристотель</a:t>
            </a:r>
            <a:br>
              <a:rPr sz="6000"/>
            </a:br>
            <a:br>
              <a:rPr sz="5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(384 – 322 гг. до н.э.)</a:t>
            </a:r>
            <a:br>
              <a:rPr sz="4400"/>
            </a:br>
            <a:r>
              <a:rPr b="1" lang="ru-RU" sz="2000" spc="-1" strike="noStrike">
                <a:solidFill>
                  <a:srgbClr val="92d050"/>
                </a:solidFill>
                <a:latin typeface="Arial"/>
              </a:rPr>
              <a:t>родился        в Др. Гре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3809520"/>
            <a:ext cx="57150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2d050"/>
                </a:solidFill>
                <a:latin typeface="Arial"/>
              </a:rPr>
              <a:t>Доказал шарообразность Зем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DND8PCAWJAFM1CALM6CX2CA2N3IRPCA3W182SCATNRQA2CA75K302CAEJL9POCA60Y6X0CAFW836ECABRLVQTCA0AFLK3CA5X1IS4CA5S5BG6CAXE4BGQCAZG562VCAKCJTPTCARE4T5MCATHJWT8CAZZLSD7"/>
          <p:cNvPicPr/>
          <p:nvPr/>
        </p:nvPicPr>
        <p:blipFill>
          <a:blip r:embed="rId2"/>
          <a:stretch/>
        </p:blipFill>
        <p:spPr>
          <a:xfrm>
            <a:off x="6004080" y="1298520"/>
            <a:ext cx="3768480" cy="111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12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12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star_007"/>
          <p:cNvPicPr/>
          <p:nvPr/>
        </p:nvPicPr>
        <p:blipFill>
          <a:blip r:embed="rId1"/>
          <a:stretch/>
        </p:blipFill>
        <p:spPr>
          <a:xfrm>
            <a:off x="0" y="0"/>
            <a:ext cx="10134720" cy="7315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5715000" y="1676520"/>
            <a:ext cx="4000680" cy="518148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4"/>
          <p:cNvSpPr/>
          <p:nvPr/>
        </p:nvSpPr>
        <p:spPr>
          <a:xfrm>
            <a:off x="533520" y="0"/>
            <a:ext cx="7315200" cy="57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Arial"/>
              </a:rPr>
              <a:t>ЭРАТОСФЕ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(ок. 276—194 до н. э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ревнегреческий астроном и гео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2d050"/>
                </a:solidFill>
                <a:latin typeface="Arial"/>
              </a:rPr>
              <a:t>Точно определи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2d05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92d050"/>
                </a:solidFill>
                <a:latin typeface="Arial"/>
              </a:rPr>
              <a:t>диаметр Зем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9" descr="star_007"/>
          <p:cNvPicPr/>
          <p:nvPr/>
        </p:nvPicPr>
        <p:blipFill>
          <a:blip r:embed="rId1"/>
          <a:stretch/>
        </p:blipFill>
        <p:spPr>
          <a:xfrm>
            <a:off x="0" y="-380880"/>
            <a:ext cx="9448920" cy="73152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Космонавт Юрий Алексеевич Гагарин первым увидел Землю в космическом пространстве.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3276720" y="1130040"/>
            <a:ext cx="5040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Monotype Corsiva"/>
              </a:rPr>
              <a:t>12 апреля 1961 года советский космонавт Юрий Алексеевич Гагарин стал первым человеком, вылетевшим в космос. На своем дистанционно-управляемом корабле Восток-1 он поднялся на высоту 320 км и совершил один оборот вокруг Земли за   108 минут. Когда он, и его глазами все человечество впервые, увидело Землю из космоса, он сказал: « Небо очень черное. Земля голубая!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1"/>
          <p:cNvSpPr/>
          <p:nvPr/>
        </p:nvSpPr>
        <p:spPr>
          <a:xfrm>
            <a:off x="324000" y="2060640"/>
            <a:ext cx="0" cy="33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2843280" y="2060640"/>
            <a:ext cx="0" cy="33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3"/>
          <p:cNvSpPr/>
          <p:nvPr/>
        </p:nvSpPr>
        <p:spPr>
          <a:xfrm flipH="1">
            <a:off x="324000" y="5373720"/>
            <a:ext cx="25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4"/>
          <p:cNvSpPr/>
          <p:nvPr/>
        </p:nvSpPr>
        <p:spPr>
          <a:xfrm flipH="1">
            <a:off x="3047760" y="2133720"/>
            <a:ext cx="75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200px-Yuri_Gagarin_official_portrait"/>
          <p:cNvPicPr/>
          <p:nvPr/>
        </p:nvPicPr>
        <p:blipFill>
          <a:blip r:embed="rId2"/>
          <a:stretch/>
        </p:blipFill>
        <p:spPr>
          <a:xfrm>
            <a:off x="324000" y="1523880"/>
            <a:ext cx="2724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2-18T06:22:15Z</dcterms:modified>
  <cp:revision>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